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7E6-43AA-4E2D-B0AA-7BE5D3FA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6C8-03F1-4CB2-BE41-14DD5D72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E06-3E29-48FE-BBFA-CA521FED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0B1-4921-498B-909D-6D28FF5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BE16-B541-4685-A962-9FFCF866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32FE-D653-4765-8C33-F4D29022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2CBF-1994-4171-BFF7-D142578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B201-F536-4328-9C30-46F50A4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AAC6-71AC-46E5-B302-D6C65518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715C-31C1-45E9-A15A-1C736D86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BE5-4B8B-4819-8C8B-98F5997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721-732A-417F-A7ED-C4845AC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A296-2B5B-4929-94A5-901E12A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5120-3758-44FB-8489-5CFD856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8EFE-7BF6-4857-A9EA-F3B20ED5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F4D9-C81D-4C7D-AFA4-785E38F4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EDAF-79B1-4D1A-B180-80B27BB6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16D-9669-429E-A367-5BD2EB35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2AB-1E12-4574-AB99-D8FEF277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A4D-2E9A-456B-9034-F62F4B3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0C7-ED94-45CA-98BE-A6160EFC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B70-3E75-48A1-9146-116A16A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9D4-76DA-4094-ACC9-0C18EC5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CC8-B51A-4904-BA0F-EADF7313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D327-27B2-4377-879F-F6EEE41CF0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241-3C2A-4B03-8211-6803291070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usculoskeletal System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nervouse system 2"/>
          <p:cNvPicPr/>
          <p:nvPr/>
        </p:nvPicPr>
        <p:blipFill>
          <a:blip r:embed="rId1"/>
          <a:stretch/>
        </p:blipFill>
        <p:spPr>
          <a:xfrm>
            <a:off x="2192400" y="304920"/>
            <a:ext cx="4991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Therefor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body is system of levers, which are made up of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bone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. The junction between the bones are called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joint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which are the points around which the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muscle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provide force to produce movement under the control of the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nervou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ajor system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Skeletal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keletal system"/>
          <p:cNvPicPr/>
          <p:nvPr/>
        </p:nvPicPr>
        <p:blipFill>
          <a:blip r:embed="rId1"/>
          <a:stretch/>
        </p:blipFill>
        <p:spPr>
          <a:xfrm>
            <a:off x="2133720" y="228600"/>
            <a:ext cx="5294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Jo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joints"/>
          <p:cNvPicPr/>
          <p:nvPr/>
        </p:nvPicPr>
        <p:blipFill>
          <a:blip r:embed="rId1"/>
          <a:stretch/>
        </p:blipFill>
        <p:spPr>
          <a:xfrm>
            <a:off x="1371600" y="461880"/>
            <a:ext cx="64771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uscu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uscles1"/>
          <p:cNvPicPr/>
          <p:nvPr/>
        </p:nvPicPr>
        <p:blipFill>
          <a:blip r:embed="rId1"/>
          <a:stretch/>
        </p:blipFill>
        <p:spPr>
          <a:xfrm>
            <a:off x="2043000" y="-66600"/>
            <a:ext cx="48434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Nervous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nervouse system"/>
          <p:cNvPicPr/>
          <p:nvPr/>
        </p:nvPicPr>
        <p:blipFill>
          <a:blip r:embed="rId1"/>
          <a:stretch/>
        </p:blipFill>
        <p:spPr>
          <a:xfrm>
            <a:off x="1900080" y="0"/>
            <a:ext cx="534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1:38:42Z</dcterms:created>
  <dc:creator>Warrick Batrall</dc:creator>
  <dc:description/>
  <dc:language>en-US</dc:language>
  <cp:lastModifiedBy>Lyn Clarkson</cp:lastModifiedBy>
  <dcterms:modified xsi:type="dcterms:W3CDTF">2009-10-20T21:58:10Z</dcterms:modified>
  <cp:revision>5</cp:revision>
  <dc:subject/>
  <dc:title>Musculoskeletal System </dc:title>
</cp:coreProperties>
</file>